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2C7-6215-46DD-B55C-7D255801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1BD-7E0F-4E92-BAE4-C43DA60D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EB2-6708-4851-98D7-C4584174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39E-A0E7-47E5-936F-25791FA1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58F-7E36-4B54-A231-E33DBA5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13F-7748-40FE-8035-AF353AF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A91-2240-4BBD-A352-B3DE510D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E15-A8F5-4F9F-A509-7A17D6C2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564-A98C-4486-8867-091CDC78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642-D82B-4FAD-A63E-7DF98FE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A66-ADF8-4CFD-B961-B685947A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34E-CA03-433D-B028-0B2DC60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9231-386C-449B-82AE-D0F1E86FE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8 Pán Ježiš z lásky ku m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z lásky ku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človekom sa stal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za moje hriechy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spásu mi daroval.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svoju vzácnu vyli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ňal zo mňa ťarchu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poko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chcem chodiť stále s ním.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 každej núdzi pri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Priateľ najlep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rdci bolesť cít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pomôže, poteší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vie, že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čistým život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íťaziť v boji s hriech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silu mi dá len on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svojho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iť v 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adostne ho ví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eď na zem príde zas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8:29:24Z</dcterms:modified>
  <cp:revision>21</cp:revision>
  <dc:subject/>
  <dc:title>Je veľký náš Pán, on slávy je Kráľ Nech do všetkých strán  spev vrúcnych znie chvál.</dc:title>
</cp:coreProperties>
</file>